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25321-3AB6-4A8C-A520-4D598D4F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1FD67-CABE-412E-8B65-DBBF2316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7FE8-832F-4972-B407-831BBED4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0641-4331-4ACF-A2D0-2A0CEECF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1121-2212-4250-9125-3856E204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15EE-D807-4D80-8443-9637BC21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BC16-A0C0-4051-B4A9-E5336F8D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B70F-D7FA-452C-B825-62546040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16F6-1EAC-4C0C-B058-C2448847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3906-A009-4872-BCCC-D3F2AD8D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1CA0-0F80-4B0C-9A4D-2D5E71A4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8201-AB8D-4B89-93D0-DECCB807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75D6-7D85-4206-878A-B9C894A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FF9D-F586-4C19-84CF-812D4648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A358-14D8-447C-AC54-228EE2B5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AF72-FEDF-4391-BC62-75084DC3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5AEA-5617-4297-A037-B30E8B67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F8ED2-D1BE-4FCB-83AF-52A9A647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7D460-4297-4978-BEE9-48D5F4D7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C1082-9D7B-491F-A1D9-DC24B0BD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0AB6-E395-4F3F-A45F-5D6AC90C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57889-F069-42C9-B088-661359DF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73B1-2477-4478-831A-7445DE02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1E7FE-0286-42FB-96DF-40C32E7C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24F8-98C9-4787-AA73-E53E1C6930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3789-BA08-4E67-82CB-68580D1C90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ubprograme</a:t>
            </a:r>
            <a:br>
              <a:rPr sz="4800"/>
            </a:br>
            <a:br>
              <a:rPr sz="4800"/>
            </a:br>
            <a:r>
              <a:rPr b="0" lang="ro-RO" sz="4100" spc="-1" strike="noStrike">
                <a:solidFill>
                  <a:srgbClr val="ffffff"/>
                </a:solidFill>
                <a:latin typeface="Arial"/>
              </a:rPr>
              <a:t>Modul de transmitere al parametrilor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600" y="5334120"/>
            <a:ext cx="3200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y Sanda Popescu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Modul de transmitere al parametrilor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 valo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 referi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ţ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 pointe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ransmiterea parametrilor prin valoar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lara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r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unc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 sch(int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t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 int z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=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46640" y="1980720"/>
            <a:ext cx="3440160" cy="32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elul func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 cin&gt;&gt;a&gt;&g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t&lt;&lt;a&lt;&lt;‘ ‘&lt;&l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(a,b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t&lt;&lt;a&lt;&lt;‘ ‘&lt;&l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9960" y="5218200"/>
            <a:ext cx="778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c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u intevine nicio schimbare a valorilor celor doua variabile a si b, in urma apelului functiei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ch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deoarece parametrii au fost transmişi prin valo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Reprezentarea pe stivă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(STAC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205740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5867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55627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51814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42670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396252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21120" y="556272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21120" y="518148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=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3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3581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5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20040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599840" y="39625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599840" y="358128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1676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xecuţia funcţi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20574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05740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5867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5627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5181480"/>
            <a:ext cx="2210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42670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96252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31000" y="556272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31000" y="518148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=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3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3581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5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320040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409720" y="39625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409720" y="358128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16765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După apel zona STACK se eliberează şi valorile variabilelor rămân neschimb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320040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5105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na 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72400" y="510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na de 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4680" y="320040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51814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na 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5334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na de 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2819520"/>
            <a:ext cx="24382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952880" y="2743200"/>
            <a:ext cx="243864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33320" y="32767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Variabilă local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ransmiterea parametrilor prin referin</a:t>
            </a:r>
            <a:r>
              <a:rPr b="0" lang="ro-RO" sz="3500" spc="-1" strike="noStrike">
                <a:solidFill>
                  <a:srgbClr val="ffffff"/>
                </a:solidFill>
                <a:latin typeface="Arial"/>
              </a:rPr>
              <a:t>ţ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lara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unc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 sch(int &amp;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t &amp;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 int z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=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46640" y="1980720"/>
            <a:ext cx="3440160" cy="32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elul func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 cin&gt;&gt;a&gt;&g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t&lt;&lt;a&lt;&lt;‘ ‘&lt;&l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(a,b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t&lt;&lt;a&lt;&lt;‘ ‘&lt;&l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9960" y="521820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c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evine schimbarea valorilor celor doua variabile a si b,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urma apelului functiei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ch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x şi y fiind variabile de tip referinţ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Reprezentarea pe stivă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(STAC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În urma apelului funcţiei,  zona STACK se eliberează şi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valorile variabilelor  a şi b se  modific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na 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20574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205740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5867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55627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5181480"/>
            <a:ext cx="2210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42670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396252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58840" y="55627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3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8840" y="5181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=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5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39625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se referă la variabila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35812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se referă la variabila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320040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437920" y="39625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510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na de 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320040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51814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81080" y="2895480"/>
            <a:ext cx="274320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80720" y="2819520"/>
            <a:ext cx="25909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41148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5791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114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3733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37339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5334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285640" y="510552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285640" y="55627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920" y="32004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Variabilă local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ransmiterea parametrilor prin intermediul pointerilor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laratia func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 sch(int *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t *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 int *z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z=*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*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*z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46640" y="1980720"/>
            <a:ext cx="3440160" cy="32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elul func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 cin&gt;&gt;a&gt;&g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t&lt;&lt;a&lt;&lt;‘ ‘&lt;&l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(&amp;a, &amp;b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t&lt;&lt;a&lt;&lt;‘ ‘&lt;&l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5334120"/>
            <a:ext cx="816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c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evine schimbarea valorilor celor dou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ariabile a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b,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urma apelului functiei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ch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deoarece pe stivă s-a transmis adresa variabile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Reprezentarea pe stivă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(STAC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752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În urma apelului funcţiei,  zona STACK se eliberează şi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valorile variabilelor  a şi b se  modific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na 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20574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205740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33720" y="5867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55627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5181480"/>
            <a:ext cx="2210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42670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396252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58840" y="55627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3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8840" y="5181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=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5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3962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x  reţine adresa variabilei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3581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y reţine adresa  variabilei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320040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437920" y="39625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510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na de 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52880" y="320040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51814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81080" y="2895480"/>
            <a:ext cx="274320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980720" y="2819520"/>
            <a:ext cx="25909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1148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5791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4114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733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7339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5334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285640" y="55627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209320" y="5181480"/>
            <a:ext cx="38124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6960" y="32004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Variabilă local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2590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um se rezolvă problemele dintr-o fabrică într-o lume tehnologică?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4190760"/>
            <a:ext cx="7543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um poate rezolva directorul (managerul) toate probleme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Singur..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373392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ffffff"/>
                </a:solidFill>
                <a:latin typeface="Arial"/>
              </a:rPr>
              <a:t>...sau p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oate trasa sarcini subalternilor</a:t>
            </a:r>
            <a:r>
              <a:rPr b="0" lang="ro-RO" sz="4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076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ce</a:t>
            </a: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ştia le pot rezolva singuri..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24350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... sau pot </a:t>
            </a:r>
            <a:r>
              <a:rPr b="0" lang="ro-RO" sz="3900" spc="-1" strike="noStrike" u="sng">
                <a:solidFill>
                  <a:srgbClr val="ffffff"/>
                </a:solidFill>
                <a:uFillTx/>
                <a:latin typeface="Arial"/>
              </a:rPr>
              <a:t>apela</a:t>
            </a: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 la subalternii lor..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43800" y="3657600"/>
            <a:ext cx="1376280" cy="145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76520" y="4038480"/>
            <a:ext cx="134784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1523880" cy="1220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486400" y="3962520"/>
            <a:ext cx="1193760" cy="1218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629400" y="1447920"/>
            <a:ext cx="110160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3505320" y="3962520"/>
            <a:ext cx="1120680" cy="1218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838080" y="1676520"/>
            <a:ext cx="1281240" cy="1523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H="1">
            <a:off x="380520" y="3352680"/>
            <a:ext cx="7621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327672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3124080"/>
            <a:ext cx="1676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943600" y="304812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304812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5720" y="5452920"/>
            <a:ext cx="76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...pentru a rezolva probleme mai mi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Cum circulă datele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205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ubalternii primesc sarcini (parametri de intrare) şi oferă rezultatele muncii lor (parametri de ieşi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057400" y="182880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3300"/>
                </a:solidFill>
                <a:latin typeface="Arial"/>
              </a:rPr>
              <a:t>Funcţiile p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ocedur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ofer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ul sau mai multe rezultate prin intermediul parametrilor, sau nu ofer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ici un rezult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.  void citeste(int &amp;n, float &amp;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per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ofer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 singur rezultat, prin numele func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.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 suma(int 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763120" y="2590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5029200"/>
            <a:ext cx="17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arametri transmişi prin referinţ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352680"/>
            <a:ext cx="121932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3352680"/>
            <a:ext cx="25146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22600" y="5562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Tipul functi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4648320"/>
            <a:ext cx="152424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3352680"/>
            <a:ext cx="1447560" cy="228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334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arametru transm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rin valo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980720" y="4648320"/>
            <a:ext cx="2514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rototipul </a:t>
            </a: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 antetul unei functi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6933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 functie poate fi descrisă prin prototip şi declarată pr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ti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id citeste(int , float);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// se încheie c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id citeste (int &amp;n, float &amp;m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5:59:38Z</dcterms:created>
  <dc:creator>CCD Brasov</dc:creator>
  <dc:description/>
  <dc:language>en-US</dc:language>
  <cp:lastModifiedBy>CCD Brasov</cp:lastModifiedBy>
  <dcterms:modified xsi:type="dcterms:W3CDTF">2007-07-14T13:31:33Z</dcterms:modified>
  <cp:revision>16</cp:revision>
  <dc:subject/>
  <dc:title>Functii C++</dc:title>
</cp:coreProperties>
</file>